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E72-157B-4275-981A-E0A9DB79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4557-8E02-4ABF-BE3C-2089D480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2B9E-2838-4BFE-BE58-E515EBA6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88C3-0834-4527-887E-951FEF22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F21B-599C-4531-8DC6-CEF3F2EE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0F79-2A9B-4FEE-8663-FE81D19D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6B92-C303-4AD2-98CD-46252592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85EA-08F2-425D-904D-C4080AE7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03BE-1AF9-48EF-ACA2-7D78D35F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42F8-CCB8-4921-B4FD-0D9D75FE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75F3-6A42-4487-9087-5A7325B7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679-2285-4CD2-A907-1889622C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7B1E-832E-4A8F-A626-E0416932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092C-242E-4203-BDF4-5F8F949E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B0E3-AEF2-4FBE-AA8B-5662913D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0F7B-CCA7-45FF-85A1-2F301A3B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8FB9-5F3C-4235-8F40-B68855A9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818-0615-4DC2-92CB-BBED4172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219E-1102-47B4-AC27-372199AE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0C86-8BCA-4562-B1C0-F4A8CEEC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8304-DEBD-45DC-AF91-F2E8FD4A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9055-B397-4A49-A54E-BFAA7BFC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EAF-3709-4CF2-8955-0C19D8D5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CBE-D1A8-41D4-AA68-60195A0F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6251-33DD-40CD-853C-2600BD450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8CA0-39EE-46CB-9E2C-026BE798C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east-at-the-forum-09.wikispaces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pd360.com/" TargetMode="External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hooltube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teachertube.com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totlol.com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easing,_Gossip,_and_Harassment.wm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Stop_Bullying.wmv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d360.com/index.cfm?ContentId=618" TargetMode="External"/><Relationship Id="rId2" Type="http://schemas.openxmlformats.org/officeDocument/2006/relationships/hyperlink" Target="http://www.pd360.com/index.cfm?ContentId=618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Guidance in the Streaming Video</a:t>
            </a:r>
            <a:br>
              <a:rPr sz="4100"/>
            </a:br>
            <a:r>
              <a:rPr b="0" i="1" lang="en-US" sz="2400" spc="-1" strike="noStrike" u="sng">
                <a:solidFill>
                  <a:srgbClr val="99cc00"/>
                </a:solidFill>
                <a:uFillTx/>
                <a:latin typeface="Arial Black"/>
                <a:hlinkClick r:id="rId1"/>
              </a:rPr>
              <a:t>http://feast-at-the-forum-09.wikispaces.com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presentation for Feast at the Foru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ebruary 4,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aren Applet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airie Lakes AE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867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9036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ting Started with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D 3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:  </a:t>
            </a:r>
            <a:r>
              <a:rPr b="0" lang="en-US" sz="18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http://www.pd360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Click on the </a:t>
            </a:r>
            <a:r>
              <a:rPr b="1" lang="en-US" sz="1400" spc="-1" strike="noStrike">
                <a:solidFill>
                  <a:srgbClr val="cc0000"/>
                </a:solidFill>
                <a:latin typeface="Arial Black"/>
              </a:rPr>
              <a:t>Register</a:t>
            </a: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 button.</a:t>
            </a:r>
            <a:endParaRPr b="0" lang="en-US" sz="1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0880" y="477720"/>
            <a:ext cx="861084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Enter the </a:t>
            </a:r>
            <a:r>
              <a:rPr b="1" lang="en-US" sz="1400" spc="-1" strike="noStrike">
                <a:solidFill>
                  <a:srgbClr val="cc0000"/>
                </a:solidFill>
                <a:latin typeface="Arial Black"/>
              </a:rPr>
              <a:t>Registration Code</a:t>
            </a: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 number (0901AEA8) and click </a:t>
            </a:r>
            <a:r>
              <a:rPr b="1" lang="en-US" sz="1400" spc="-1" strike="noStrike">
                <a:solidFill>
                  <a:srgbClr val="cc0000"/>
                </a:solidFill>
                <a:latin typeface="Arial Black"/>
              </a:rPr>
              <a:t>Continue</a:t>
            </a: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Enter your e-mail address twice and click </a:t>
            </a:r>
            <a:r>
              <a:rPr b="1" lang="en-US" sz="1400" spc="-1" strike="noStrike">
                <a:solidFill>
                  <a:srgbClr val="cc0000"/>
                </a:solidFill>
                <a:latin typeface="Arial Black"/>
              </a:rPr>
              <a:t>Continue</a:t>
            </a: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Select your school from the drop menu, enter a new password, complete the demographic information, and click </a:t>
            </a:r>
            <a:r>
              <a:rPr b="1" lang="en-US" sz="1400" spc="-1" strike="noStrike">
                <a:solidFill>
                  <a:srgbClr val="cc0000"/>
                </a:solidFill>
                <a:latin typeface="Arial Black"/>
              </a:rPr>
              <a:t>Continue</a:t>
            </a: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A </a:t>
            </a:r>
            <a:r>
              <a:rPr b="1" lang="en-US" sz="1400" spc="-1" strike="noStrike">
                <a:solidFill>
                  <a:srgbClr val="cc0000"/>
                </a:solidFill>
                <a:latin typeface="Arial Black"/>
              </a:rPr>
              <a:t>Welcome to PD 360</a:t>
            </a: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 screen will appear.  Click </a:t>
            </a:r>
            <a:r>
              <a:rPr b="1" lang="en-US" sz="1400" spc="-1" strike="noStrike">
                <a:solidFill>
                  <a:srgbClr val="cc0000"/>
                </a:solidFill>
                <a:latin typeface="Arial Black"/>
              </a:rPr>
              <a:t>Log In</a:t>
            </a: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 to continue.</a:t>
            </a:r>
            <a:endParaRPr b="0" lang="en-US" sz="1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Read and initial the license agreement before clicking on </a:t>
            </a:r>
            <a:r>
              <a:rPr b="1" lang="en-US" sz="1400" spc="-1" strike="noStrike">
                <a:solidFill>
                  <a:srgbClr val="cc0000"/>
                </a:solidFill>
                <a:latin typeface="Arial Black"/>
              </a:rPr>
              <a:t>I Accept</a:t>
            </a: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 to continue.</a:t>
            </a:r>
            <a:endParaRPr b="0" lang="en-US" sz="1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Congratulations, you have successfully created your account for </a:t>
            </a:r>
            <a:r>
              <a:rPr b="1" lang="en-US" sz="1400" spc="-1" strike="noStrike">
                <a:solidFill>
                  <a:srgbClr val="cc0000"/>
                </a:solidFill>
                <a:latin typeface="Arial Black"/>
              </a:rPr>
              <a:t>PD 360</a:t>
            </a: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!</a:t>
            </a:r>
            <a:endParaRPr b="0" lang="en-US" sz="1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lick on the</a:t>
            </a:r>
            <a:r>
              <a:rPr b="1" lang="en-US" sz="1400" spc="-1" strike="noStrike">
                <a:solidFill>
                  <a:srgbClr val="cc0000"/>
                </a:solidFill>
                <a:latin typeface="Arial Black"/>
              </a:rPr>
              <a:t> Help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utton to access the </a:t>
            </a:r>
            <a:r>
              <a:rPr b="1" lang="en-US" sz="1400" spc="-1" strike="noStrike">
                <a:solidFill>
                  <a:srgbClr val="cc0000"/>
                </a:solidFill>
                <a:latin typeface="Arial Black"/>
              </a:rPr>
              <a:t>PD 360 Basic Users Guide</a:t>
            </a: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treaming Video Resources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1" action="ppaction://hlinksldjump"/>
              </a:rPr>
              <a:t>Discovery Educatio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ible through the AEA On-line Media Cata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2" action="ppaction://hlinksldjump"/>
              </a:rPr>
              <a:t>Learn 36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ible through the AEA On-line Media Cata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3" action="ppaction://hlinksldjump"/>
              </a:rPr>
              <a:t>PD36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pd360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Other Possibilities for Streamin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4880" y="3438360"/>
            <a:ext cx="2752560" cy="781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68680" y="2127240"/>
            <a:ext cx="1914480" cy="800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21120" y="3560760"/>
            <a:ext cx="444168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99cc00"/>
                </a:solidFill>
                <a:uFillTx/>
                <a:latin typeface="Arial Black"/>
                <a:hlinkClick r:id="rId1"/>
              </a:rPr>
              <a:t>You Can Solve It! Harassmen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en does good natured teasing become harassment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en does gossip become harassmen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ourc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ation (M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sing, Gossip, and Harassment. Sunburst Visual Media. 200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Learn360. 02 February 200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ation (A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sing, Gossip, and Harassment. Sunburst Visual Medi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2007 Retrieved February 02, 2009, fr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Learn360: http://www.learn360.com/ShowVideo.aspx?ID=1393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ation (Chicago Manual of Sty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burst Visual Media. "Teasing, Gossip, and Harassment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Learn360: http://www.learn360.com/ShowVideo.aspx?ID=1393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99cc00"/>
                </a:solidFill>
                <a:uFillTx/>
                <a:latin typeface="Arial Black"/>
                <a:hlinkClick r:id="rId1"/>
              </a:rPr>
              <a:t>Stop Bullyin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You have the pow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ll someone you can trus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ourc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tation (ML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ig Deal about Bullying &amp; What You Can Do about It. Linx Educational. 2005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very Education. 2 February 200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ttp://streaming.discoveryeducation.com/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tation (AP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ig Deal about Bullying &amp; What You Can Do about It. Linx Educatio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05). Retrieved February 2, 2009, fro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very Education: http://streaming.discoveryeducation.com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tation (Chicago Manual of Styl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x Educational. "The Big Deal about Bullying &amp; What You Can Do about It.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very Education: http://streaming.discoveryeducation.com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99cc00"/>
                </a:solidFill>
                <a:uFillTx/>
                <a:latin typeface="Arial Black"/>
                <a:hlinkClick r:id="rId1"/>
              </a:rPr>
              <a:t>Concious</a:t>
            </a:r>
            <a:r>
              <a:rPr b="0" lang="en-US" sz="3300" spc="-1" strike="noStrike" u="sng">
                <a:solidFill>
                  <a:srgbClr val="99cc00"/>
                </a:solidFill>
                <a:uFillTx/>
                <a:latin typeface="Arial Black"/>
                <a:hlinkClick r:id="rId2"/>
              </a:rPr>
              <a:t> Classroom Managemen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8040" y="1904760"/>
            <a:ext cx="77598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reat teachers control their classrooms by having their students passionately engaged in the learning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segment looks at prevention, what we do proactively as teacher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lding one’s ground requires advance planning and commitmen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rn to say NO in a soft but firm wa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9036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ting Started with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D 3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04920" y="9144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you do not already have a </a:t>
            </a: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PD 36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ccount, then follow these steps to set up an account today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ystem will tell you if you already have an accou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you have forgotten your password to an existing account, you can request the information by e-mail from the </a:t>
            </a: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Welcome to PD 36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g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3505320"/>
            <a:ext cx="78487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581280"/>
            <a:ext cx="396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40384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7400" y="3429000"/>
            <a:ext cx="45720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20:33:16Z</dcterms:created>
  <dc:creator>Karen Appleton</dc:creator>
  <dc:description/>
  <dc:language>en-US</dc:language>
  <cp:lastModifiedBy>Karen Appleton</cp:lastModifiedBy>
  <dcterms:modified xsi:type="dcterms:W3CDTF">2009-02-04T14:25:36Z</dcterms:modified>
  <cp:revision>8</cp:revision>
  <dc:subject/>
  <dc:title>Slide 1</dc:title>
</cp:coreProperties>
</file>